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21C-604E-4C91-A58A-C8CB802E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528-9877-4103-9FB2-A8ACC937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598-2791-48F0-AE34-79CACE3D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022-A0D8-46C4-A22A-77212236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FB8-DADA-4D54-B43C-11416AF4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574-3A7E-442C-B755-236C964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FA9-C1C4-41EB-BAE8-3C812F6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05E-52C3-466D-97F9-5338571D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440-32A9-4BB1-8D43-ED355E77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F97-B790-4C5E-90B3-AF15B09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92D-07E0-4EB2-911F-B5B7E22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2C0-B031-470B-8B31-D3F8985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59C9-369D-4D44-A931-6D742270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2.idsoline.com/jeff/lostgeneration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Zach, Ray, Brennan and Jes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clair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satire novels such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n Str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b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from Yale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newspaper reporter in Iowa and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6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255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.L. Me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wittiest critics at the time, often richly deserved his nasty in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ed the South the “ Sahara of the Bozar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59240" y="3809880"/>
            <a:ext cx="2641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ne, Nina. (1994). The Norton Anthology of American Literature. N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nden, Perkins, George &amp; Barbara. (1994)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American Tra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 Lit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Y: McGraud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 Geocities.com/athens/acropolis/6681/tseliotb.htm 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2.idsoline.com/jeff/lostgeneration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iyamizu.lit.kobe-u.ad.jp/~hishika/pound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nglish.upenn.edu/~afilreis/88/stein-bio.htm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rnest.hemingway.com/turgenev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ritannica.com/bcom/eb/…e/printable/8/057224900800.htm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EE ENDDDD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29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ost Americans happily went to exciting activities such as movies, listen to the radio and music, dance, and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665440" cy="31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1911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ost Americans did activities, listed in the previous slide, some began to attack America’s materi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ism is placing more importance on money and material goods than it did on intellectual, spiritual, and artistic conc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784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50000">
              <a:srgbClr val="00ffcc"/>
            </a:gs>
            <a:gs pos="100000">
              <a:srgbClr val="cc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who attacked materialism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trude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Scott Fitzger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os Pa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lair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trude St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very creative with her languages in her play, operas and boo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lso gave a very important quote “you are all a lost gener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67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nest Heming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the masterpiece “ The Sun Also Rises” published in 19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t Gertrude’s quote in the title of his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3591000"/>
            <a:ext cx="2971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nov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Great Gats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19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considered Fitzgerald’s bes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2262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os Pa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trilo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.S.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suggested the United States had become 2 nations one rich and on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erimented with free form writing leaving punctuation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3:55Z</dcterms:created>
  <dc:creator>TECH</dc:creator>
  <dc:description/>
  <dc:language>en-US</dc:language>
  <cp:lastModifiedBy>ASD</cp:lastModifiedBy>
  <dcterms:modified xsi:type="dcterms:W3CDTF">2010-06-22T21:12:15Z</dcterms:modified>
  <cp:revision>2</cp:revision>
  <dc:subject/>
  <dc:title>The Lost Generation</dc:title>
</cp:coreProperties>
</file>